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574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57600" cy="34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F88553-96EB-4052-B293-D5990C7E59F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802A1D-C86F-4753-94CA-5D5C7B21FEA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88D5B-9467-4FEE-8B85-6B649075F6B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FE420B-8CE6-49FD-8C29-A94B90D2993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C4C8A3-E282-4904-9341-B9FA53E77C4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7F5523-735C-4B26-B6E8-6CF0471FEE8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D6453-8CA9-461D-9AC0-22328D317FE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65638-4E88-4172-9052-C4DC78B60D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676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67031-D1CF-4DC6-A8E2-18EBC1EE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04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0A2B0-51B8-4AEC-A288-9DFA3645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460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236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460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236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0F2DF-5371-40FD-BE2D-6B2BC27B5F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A6936-9B19-4E25-AA50-35C0DA3E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26531-3851-4D18-9292-921B8BBC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A6991-7FF0-4215-9A55-CB5C1C0B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F2919-2E43-41C5-AB49-F10956D65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152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9D8C4-8084-4B30-BC12-7CE54591D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EE8D8-6587-4621-84F2-9D414804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04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835AB-A680-4021-AF4B-999FDAE5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3C9A3-CA8F-4810-BD6F-5B18B480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193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3280"/>
            <a:ext cx="21193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4CBECC1-27F0-4E4A-93C6-6D027B1C5AFD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unción de rep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332000" y="2666880"/>
            <a:ext cx="619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LA FORMACIÓN DE LA SEMILLA </a:t>
            </a:r>
            <a:br>
              <a:rPr sz="2800"/>
            </a:b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Y DEL FRU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ormación de la semilla y del fru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2"/>
          <a:stretch/>
        </p:blipFill>
        <p:spPr>
          <a:xfrm>
            <a:off x="1260360" y="1619280"/>
            <a:ext cx="2260800" cy="2408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3"/>
          <a:stretch/>
        </p:blipFill>
        <p:spPr>
          <a:xfrm>
            <a:off x="5838840" y="1371600"/>
            <a:ext cx="2260440" cy="2408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"/>
          <p:cNvPicPr/>
          <p:nvPr/>
        </p:nvPicPr>
        <p:blipFill>
          <a:blip r:embed="rId4"/>
          <a:stretch/>
        </p:blipFill>
        <p:spPr>
          <a:xfrm>
            <a:off x="3959280" y="3780000"/>
            <a:ext cx="2260440" cy="24080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9"/>
          <p:cNvSpPr/>
          <p:nvPr/>
        </p:nvSpPr>
        <p:spPr>
          <a:xfrm>
            <a:off x="900000" y="907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Del pistilo al fruto y la sem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395280" y="3780000"/>
            <a:ext cx="2160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flor se marchita, se caen la corola y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androceo. Se empieza a desarrollar el cigo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6732720" y="3141720"/>
            <a:ext cx="2303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pared del ovario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 engrosa; en su interior, se empieza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 formar una semill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4140360" y="5580000"/>
            <a:ext cx="216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 forma el fruto que contiene la semilla en su interio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13"/>
          <p:cNvSpPr/>
          <p:nvPr/>
        </p:nvSpPr>
        <p:spPr>
          <a:xfrm>
            <a:off x="3780000" y="1979640"/>
            <a:ext cx="1979280" cy="539640"/>
          </a:xfrm>
          <a:prstGeom prst="rightArrow">
            <a:avLst>
              <a:gd name="adj1" fmla="val 50000"/>
              <a:gd name="adj2" fmla="val 91694"/>
            </a:avLst>
          </a:prstGeom>
          <a:solidFill>
            <a:srgbClr val="ff95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Freeform 14"/>
          <p:cNvSpPr/>
          <p:nvPr/>
        </p:nvSpPr>
        <p:spPr>
          <a:xfrm flipH="1">
            <a:off x="6478560" y="4392720"/>
            <a:ext cx="900000" cy="900000"/>
          </a:xfrm>
          <a:custGeom>
            <a:avLst/>
            <a:gdLst>
              <a:gd name="textAreaLeft" fmla="*/ 360 w 900000"/>
              <a:gd name="textAreaRight" fmla="*/ 900720 w 90000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ff95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Freeform 15"/>
          <p:cNvSpPr/>
          <p:nvPr/>
        </p:nvSpPr>
        <p:spPr>
          <a:xfrm flipH="1" rot="5460000">
            <a:off x="2701080" y="4323960"/>
            <a:ext cx="900000" cy="900360"/>
          </a:xfrm>
          <a:custGeom>
            <a:avLst/>
            <a:gdLst>
              <a:gd name="textAreaLeft" fmla="*/ 360 w 900000"/>
              <a:gd name="textAreaRight" fmla="*/ 900720 w 900000"/>
              <a:gd name="textAreaTop" fmla="*/ 0 h 900360"/>
              <a:gd name="textAreaBottom" fmla="*/ 900720 h 900360"/>
            </a:gdLst>
            <a:ahLst/>
            <a:rect l="textAreaLeft" t="textAreaTop" r="textAreaRight" b="textAreaBottom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ff95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16 CuadroTexto"/>
          <p:cNvSpPr/>
          <p:nvPr/>
        </p:nvSpPr>
        <p:spPr>
          <a:xfrm>
            <a:off x="468360" y="3357720"/>
            <a:ext cx="287280" cy="36828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17 CuadroTexto"/>
          <p:cNvSpPr/>
          <p:nvPr/>
        </p:nvSpPr>
        <p:spPr>
          <a:xfrm>
            <a:off x="6443640" y="3213000"/>
            <a:ext cx="289080" cy="36828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18 CuadroTexto"/>
          <p:cNvSpPr/>
          <p:nvPr/>
        </p:nvSpPr>
        <p:spPr>
          <a:xfrm>
            <a:off x="3780000" y="5516640"/>
            <a:ext cx="287280" cy="36828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ormación de la semilla y del fru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Partes de la sem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2"/>
          <a:stretch/>
        </p:blipFill>
        <p:spPr>
          <a:xfrm>
            <a:off x="2627280" y="2052720"/>
            <a:ext cx="3521160" cy="36669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8"/>
          <p:cNvSpPr/>
          <p:nvPr/>
        </p:nvSpPr>
        <p:spPr>
          <a:xfrm>
            <a:off x="468360" y="2060640"/>
            <a:ext cx="1979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bumen: es una sustancia nutritiva que alimenta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 embr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9"/>
          <p:cNvSpPr/>
          <p:nvPr/>
        </p:nvSpPr>
        <p:spPr>
          <a:xfrm>
            <a:off x="2308320" y="2824200"/>
            <a:ext cx="1792080" cy="60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5651640" y="2421000"/>
            <a:ext cx="1979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tiledones: pequeñas hojas que almacenan nutrient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11"/>
          <p:cNvSpPr/>
          <p:nvPr/>
        </p:nvSpPr>
        <p:spPr>
          <a:xfrm flipH="1">
            <a:off x="4535640" y="2637000"/>
            <a:ext cx="1116000" cy="81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5651640" y="342900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all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13"/>
          <p:cNvSpPr/>
          <p:nvPr/>
        </p:nvSpPr>
        <p:spPr>
          <a:xfrm flipH="1">
            <a:off x="4416120" y="3638520"/>
            <a:ext cx="12891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5651640" y="386064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aicill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Line 15"/>
          <p:cNvSpPr/>
          <p:nvPr/>
        </p:nvSpPr>
        <p:spPr>
          <a:xfrm flipH="1">
            <a:off x="4397040" y="3992400"/>
            <a:ext cx="128124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16"/>
          <p:cNvSpPr/>
          <p:nvPr/>
        </p:nvSpPr>
        <p:spPr>
          <a:xfrm>
            <a:off x="7667640" y="2276640"/>
            <a:ext cx="1440" cy="19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17"/>
          <p:cNvSpPr/>
          <p:nvPr/>
        </p:nvSpPr>
        <p:spPr>
          <a:xfrm>
            <a:off x="7164360" y="2276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19"/>
          <p:cNvSpPr/>
          <p:nvPr/>
        </p:nvSpPr>
        <p:spPr>
          <a:xfrm>
            <a:off x="7667640" y="3492360"/>
            <a:ext cx="1792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7815240" y="3311640"/>
            <a:ext cx="13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mbr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21"/>
          <p:cNvSpPr/>
          <p:nvPr/>
        </p:nvSpPr>
        <p:spPr>
          <a:xfrm>
            <a:off x="539640" y="4268880"/>
            <a:ext cx="1979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ubiertas protectoras: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odean y protegen la semill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22"/>
          <p:cNvSpPr/>
          <p:nvPr/>
        </p:nvSpPr>
        <p:spPr>
          <a:xfrm flipV="1">
            <a:off x="2340000" y="3963960"/>
            <a:ext cx="1720800" cy="6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23"/>
          <p:cNvSpPr/>
          <p:nvPr/>
        </p:nvSpPr>
        <p:spPr>
          <a:xfrm flipV="1">
            <a:off x="2340000" y="4156200"/>
            <a:ext cx="1720800" cy="46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17"/>
          <p:cNvSpPr/>
          <p:nvPr/>
        </p:nvSpPr>
        <p:spPr>
          <a:xfrm>
            <a:off x="7164360" y="4221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jose luis</cp:lastModifiedBy>
  <dcterms:modified xsi:type="dcterms:W3CDTF">2012-11-26T17:14:33Z</dcterms:modified>
  <cp:revision>46</cp:revision>
  <dc:subject/>
  <dc:title>Diapositiva 1</dc:title>
</cp:coreProperties>
</file>